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B33-A498-4B2F-AED6-CB482EED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F62-4205-4036-8AB5-18C8CEAF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093-EF7A-44EB-9EDA-F2BEB9AF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86C-1DAB-4D4C-B006-1912AC44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8688-0636-4F8E-B8DA-BFAD52D7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5C48-2578-425D-B28B-45395F76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AEF7-05A0-4856-850F-ED502AEA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7A5E-BEAA-4A98-92FA-C14ADD7D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D57B-1893-4AC6-BAA1-376CF04F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7D9D-C3FA-41BD-8D92-BA0CDD64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9D77-6CA9-44F7-8D09-54A037A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94A-972F-45FF-A9A5-12007D70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72AA-486E-45C5-8AE0-368A028E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67A1-21D4-4ED4-96F7-BCEB4E4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957A-63E3-4C93-9797-61C04401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82E6-79B0-4EBF-AF79-FD568462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B54E-CA76-464D-83AE-4252D10C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38D-AA90-4BC8-AAF5-95C2C47E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878-F913-4859-BA15-3611E92D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2C1-DA07-4029-AE58-BCA92E9D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D3B-38B5-48D2-BC6A-E972A579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923-763C-460D-AEED-52990115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E6E-0909-40EF-8D2B-A35D7C21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D7E-F1A3-450F-91AA-8AB7A055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B589-A442-4373-A25A-6FB82595BD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CB01-8175-4EC5-BABA-636A86DF4F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gency FB"/>
              </a:rPr>
              <a:t>Sasha Wilia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ABOUT M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 a stain on 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05320" y="4343400"/>
            <a:ext cx="2438280" cy="2278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 rot="1372800">
            <a:off x="5832360" y="475920"/>
            <a:ext cx="184788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 rot="19566000">
            <a:off x="546120" y="597960"/>
            <a:ext cx="1924200" cy="1436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075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ush Script Std"/>
              </a:rPr>
              <a:t>The end of m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This slide was to show who I am inside in out you have learned some basic things about me…and the dreams I very much wish to achieve in the futu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dobe Garamond Pro Bold"/>
              </a:rPr>
              <a:t>I am good at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kton Pro Ext"/>
              </a:rPr>
              <a:t>Danc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kton Pro Ext"/>
              </a:rPr>
              <a:t>Runing track &amp; cross count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kton Pro Ext"/>
              </a:rPr>
              <a:t>Having fu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 rot="21036600">
            <a:off x="533520" y="3657600"/>
            <a:ext cx="1782720" cy="2666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048120" y="3809880"/>
            <a:ext cx="2895480" cy="217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Haettenschweiler"/>
              </a:rPr>
              <a:t>My favorite websites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space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nypic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otobucket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everlife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irch Std"/>
              </a:rPr>
              <a:t>Favorite foods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awfis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sh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ied chick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ied shrim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tfis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b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ulfoo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izz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cDonal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ger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ndy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c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ian foo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inese foo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 rot="1336800">
            <a:off x="5181120" y="1904760"/>
            <a:ext cx="2362320" cy="1687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6"/>
          <a:stretch/>
        </p:blipFill>
        <p:spPr>
          <a:xfrm rot="20793000">
            <a:off x="3335040" y="3633480"/>
            <a:ext cx="2225520" cy="1608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7"/>
          <a:stretch/>
        </p:blipFill>
        <p:spPr>
          <a:xfrm rot="1312800">
            <a:off x="5943240" y="48006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no Pro Smbd Caption"/>
              </a:rPr>
              <a:t>My favorite teacher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Mrs.we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Coach B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Mrs.LaB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gency FB"/>
              </a:rPr>
              <a:t>If I could I would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n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 a plastic surg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rush Script Std"/>
              </a:rPr>
              <a:t>In 10 years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I would like to be in coll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Are have a job as a surg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gency FB"/>
              </a:rPr>
              <a:t>My favorite athlete and sineger is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arion Jones because she has the same dream I have now and its to run track and win the gold for me and help me relize there is never an excuse for not wining your only a loser if you choose not to finish the ra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Neyo because of his talented voice and way of thing in constructing music he would not have got this far without the mentality of never giving up a dream and giving that extra degree 212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19:41Z</dcterms:created>
  <dc:creator>769579</dc:creator>
  <dc:description/>
  <dc:language>en-US</dc:language>
  <cp:lastModifiedBy>769579</cp:lastModifiedBy>
  <dcterms:modified xsi:type="dcterms:W3CDTF">2008-10-28T15:59:48Z</dcterms:modified>
  <cp:revision>5</cp:revision>
  <dc:subject/>
  <dc:title>Sasha Wiliams</dc:title>
</cp:coreProperties>
</file>